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F789-67B9-4031-940D-3BFFF605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170-F9F6-4809-9032-8E6BF4560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664-6F74-4BEA-8AA9-73FDE1B47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21F-01BD-4C9E-9E89-B86AF190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18E-E175-448F-B6A9-E34AB5ED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0FB1-A137-428E-BC8A-5E8DA32A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B668-E233-4C84-9144-0758C808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D2F-415A-436A-B92B-9DD076B5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2DD-2748-4277-9B31-6E8AF9B0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3E3-9723-4FAE-91F0-FDE78DF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3B7-727C-4497-9327-765B7ED4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B00-EA4E-446D-9D71-6CC3B113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F558-E397-4D32-A081-BD0CE2E8C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63480" y="1359000"/>
            <a:ext cx="786924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steps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edit sy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Planning the degre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nnecting the credit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crete training proces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based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ly structured training process (phases, modules, exa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- Planning the training cont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put vs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oriented 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: what do we need for a certain tr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g level in le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ional level, in library background, in classroom space,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: what kind of capacities, abilities, knowledge are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ertain level, a certain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32960" y="1503360"/>
            <a:ext cx="8151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outcomes can be regarded as basic educational buil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locks that impact at the local, national and international le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ave a major role in curriculum design/develop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outcomes relate to external reference points (qual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criptors, levels, level descriptors, subject benchmark statement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at constitute ‘new style’ qualifications framewor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 of a paradigm shift - teaching to learning (student-centred learn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role of the teacher moves towards being a facilitator/manag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8000" y="1484280"/>
            <a:ext cx="979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inisters encourage the member states to elaborate a framework of compa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nd compatible qualifications for their higher education systems, which should s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o describe qualifications in terms of workload, level, 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learning outcom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ences and profile. They also undertake to elaborate an overar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ramework of qualifications for the European Higher Education Area.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Within such frameworks, degrees should have different 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efined outcomes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irst and second cycle degrees should have different orientations and vario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files in order to accommodate a diversity of individual, academic and lab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ket needs. First cycle degrees should give access, in the sense of the Lis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cognition Convention, to second cycle programmes. Second cycle degre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hould give access to doctoral studies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erlin Communiqué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07120" y="1432080"/>
            <a:ext cx="75398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ltiple definitions exist but all are fairly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earning outcomes are statements of what a learn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expected to know, understand and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demonstrate at the end of a learning experience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cus on achievements (output foc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 be written for the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ourse, th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dule or programme of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mphasise the teaching, learning,assessment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outcomes are often expressed in terms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erstanding/competence/skill, 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At the end of this session participants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ritically evaluate the role of learning outcome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Bologna educational reform process.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02200" y="1916280"/>
            <a:ext cx="701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KNOWING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, describe, identify, label, list, name, organi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asu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OMPREHENSIO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rpret, translate, estimate, predict, discuss, summaris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in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KNOWLEDGE/UNDERSTAN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pply, solve, compute, predict, relate, assess, verify, operat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NALY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iate, relate, select, compare, elucidate, identif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YN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egrate, combine, compose, compile, devise, design, argu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EVALU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rast, compare, assess, discriminate, evaluate, questio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7080" y="134136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7640" y="620280"/>
            <a:ext cx="575640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bfae8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987640" y="1341360"/>
            <a:ext cx="56880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6c533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628280"/>
            <a:ext cx="82753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ECTS, TUNING, LEARNING OUTCOMES</a:t>
            </a:r>
            <a:br>
              <a:rPr sz="4000"/>
            </a:b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Planning the Training Process</a:t>
            </a:r>
            <a:br>
              <a:rPr sz="2800"/>
            </a:br>
            <a:br>
              <a:rPr sz="28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ntal Bókay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Vice Rector, University of Pécs, Hung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419280" y="4652640"/>
            <a:ext cx="56163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Implementation of ECTS at Universities in Serbia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Times New Roman"/>
              </a:rPr>
              <a:t>TEMPUS Coneference, Novi S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480" y="155880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story of the Credit Sy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3720" y="2252520"/>
            <a:ext cx="9068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 Carnegie definition (1920) – connecting postsecondary and university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 – Great Britain – coordination of different institutiona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ational Council for Vocational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an Credit Transfer System – introduced in 198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oday: European credit transfer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um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ystem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 1999/2000 it is used by 1200 European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egration of the USA, Mexico and Canada in one sing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Integration of ECTS with the Americ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3960" y="1406520"/>
            <a:ext cx="588672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od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xed study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dividually organized content (role of the profess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urely academic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45760" y="3284640"/>
            <a:ext cx="45028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stmoder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abour market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on-academic abilities, social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lexible study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920" y="4941720"/>
            <a:ext cx="854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Jean-Francois Lyotard: The Postmodern Condition: A Report on Knowledge (19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ll Readings: The University in Ruins (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36200" y="1432080"/>
            <a:ext cx="469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MS OF THE CRE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17200" y="1936800"/>
            <a:ext cx="815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Provide a general, formal principle for the institutional mediation of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- Globalization of knowledge mediation  on intern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Globalization of knowledge medation among the different levels of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low the use of general management techniques to connect knowled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nagement to social functions and effectivity (quality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23840" y="1698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3840" y="1432080"/>
            <a:ext cx="37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redit, ECTS in Hung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7440" y="2008080"/>
            <a:ext cx="818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First credit systems introduced at individual universities – 198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tional credit system defined by govermental decree –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tional Credit Council, National Credit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National credit system introduced in all first year programs –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CTS modell-like sy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troduction of every elements of ECTS in the new two-level (BA / MA) hig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ducation programs (Bologna Agreement higher education refo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2520" y="1263600"/>
            <a:ext cx="803556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resent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A / BSc. 18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 / MSc. 12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octoral level 18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 semeste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average of 30 cre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 credi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= 30 work-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ll credit courses are evaluated (1-5 lev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Grades reflect the output of the individual student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  <a:ea typeface="Arial"/>
              </a:rPr>
              <a:t>↔ ECTS statistical grad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2680" y="4359240"/>
            <a:ext cx="86036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ey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Course catalogue /course package (structure of the program, modules, ex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Learning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iploma supplement (from June 2006 both in Hungarian and in Engl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0560" y="2205000"/>
            <a:ext cx="7619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Credit system was introduced top-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National level, with a governmental dec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level – computerized comm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  <a:ea typeface="Arial"/>
              </a:rPr>
              <a:t>Faculty level, program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12120" y="1844640"/>
            <a:ext cx="83977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omputerized managemen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egree programs structural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urface of signing up to courses at the beginning of the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urface of signing up to exams at the end of the sem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Data-base of all the grades and other learning activities of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ackground of the automatic creation of diploma supp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erves as a communication surface (email, s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onncted with student bank account serves as fina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anagement su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- Background of the e-learn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2:17:23Z</dcterms:created>
  <dc:creator>Kállinger Brigitta</dc:creator>
  <dc:description/>
  <dc:language>en-US</dc:language>
  <cp:lastModifiedBy>You</cp:lastModifiedBy>
  <cp:lastPrinted>2004-06-16T10:23:35Z</cp:lastPrinted>
  <dcterms:modified xsi:type="dcterms:W3CDTF">2006-02-26T23:31:23Z</dcterms:modified>
  <cp:revision>124</cp:revision>
  <dc:subject/>
  <dc:title>1. dia</dc:title>
</cp:coreProperties>
</file>