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2497-521E-491F-9732-C05AE4CA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8D5A-76D3-47B3-8BD1-C725B2FC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1276-A1DC-4C4B-9E22-6822C80C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D2A-7ECD-4D50-8459-8B0E3208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0B56-2955-465A-8B64-8FD6B091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94FF-CC24-4E68-9F90-50121A45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8B14-9DFB-47CB-A5A4-4997F209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10A3-CAAC-48D5-A947-E02BB062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8306-906E-4E14-9D72-C39216F5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669B-81BF-497D-93E9-7370A0F9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030B-5D9C-4B3A-915A-16DA14F1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9E81-18F9-44C8-8192-D6F12EED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88CE-62C4-4F63-8529-393A3266D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AZIVppt" descr=""/>
          <p:cNvPicPr/>
          <p:nvPr/>
        </p:nvPicPr>
        <p:blipFill>
          <a:blip r:embed="rId2"/>
          <a:stretch/>
        </p:blipFill>
        <p:spPr>
          <a:xfrm>
            <a:off x="0" y="1346040"/>
            <a:ext cx="9144000" cy="3988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9600" y="4800600"/>
            <a:ext cx="389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ctor’s Conferen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7 February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64640" y="68580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Verdana"/>
              </a:rPr>
              <a:t>UNIVERSITY OF NOVI S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11560" y="5958000"/>
            <a:ext cx="32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Verdana"/>
              </a:rPr>
              <a:t>www.ects.ns.ac.y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ffffff"/>
                </a:solidFill>
                <a:latin typeface="Verdana"/>
              </a:rPr>
              <a:t>GENERAL OVERVIEW OF ECTS IMPLEMENTATION AT SERBIAN UNIVERSITI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iversity of Arts in Belgrade – ECTS introduced only at postgraduate interdisciplinary studies, but not at graduate stud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iversity of Kragujevac – at 6 faculties (out of 11) ECTS introdu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iversity of Ni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at 4 faculties (out of 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ECTS introdu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iversity of 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Novi Sa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at 11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aculties (out of 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ECTS introdu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500" spc="-1" strike="noStrike">
                <a:solidFill>
                  <a:srgbClr val="ffffff"/>
                </a:solidFill>
                <a:latin typeface="Verdana"/>
              </a:rPr>
              <a:t>Web site of the </a:t>
            </a:r>
            <a:br>
              <a:rPr sz="2500"/>
            </a:br>
            <a:r>
              <a:rPr b="1" lang="sl-SI" sz="2500" spc="-1" strike="noStrike">
                <a:solidFill>
                  <a:srgbClr val="ffffff"/>
                </a:solidFill>
                <a:latin typeface="Verdana"/>
              </a:rPr>
              <a:t>Tempus SCM C009B04 Projec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Verdana"/>
              </a:rPr>
              <a:t>www.ects.ns.ac.y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47040" y="4206960"/>
            <a:ext cx="45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Information about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ECTS information in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480" y="5435640"/>
            <a:ext cx="56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DURATION: October 2005 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ctober 200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March 2007)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Verdana"/>
              </a:rPr>
              <a:t>Implementation of ECTS </a:t>
            </a:r>
            <a:br>
              <a:rPr sz="3000"/>
            </a:br>
            <a:r>
              <a:rPr b="1" lang="en-US" sz="3000" spc="-1" strike="noStrike">
                <a:solidFill>
                  <a:srgbClr val="990000"/>
                </a:solidFill>
                <a:latin typeface="Verdana"/>
              </a:rPr>
              <a:t>at Universities in Serb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Verdana"/>
              </a:rPr>
              <a:t>FOREIGN PARTNERS</a:t>
            </a:r>
            <a:r>
              <a:rPr b="0" lang="sl-SI" sz="21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100" spc="-1" strike="noStrike">
                <a:solidFill>
                  <a:srgbClr val="000066"/>
                </a:solidFill>
                <a:latin typeface="Verdana"/>
              </a:rPr>
              <a:t>University of Osnabrück</a:t>
            </a:r>
            <a:r>
              <a:rPr b="1" lang="en-US" sz="2100" spc="-1" strike="noStrike">
                <a:solidFill>
                  <a:srgbClr val="000066"/>
                </a:solidFill>
                <a:latin typeface="Verdana"/>
              </a:rPr>
              <a:t> (Gehmlich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100" spc="-1" strike="noStrike">
                <a:solidFill>
                  <a:srgbClr val="000066"/>
                </a:solidFill>
                <a:latin typeface="Verdana"/>
              </a:rPr>
              <a:t>University of Pécs</a:t>
            </a:r>
            <a:r>
              <a:rPr b="1" lang="en-US" sz="2100" spc="-1" strike="noStrike">
                <a:solidFill>
                  <a:srgbClr val="000066"/>
                </a:solidFill>
                <a:latin typeface="Verdana"/>
              </a:rPr>
              <a:t> (Bokay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100" spc="-1" strike="noStrike">
                <a:solidFill>
                  <a:srgbClr val="000066"/>
                </a:solidFill>
                <a:latin typeface="Verdana"/>
              </a:rPr>
              <a:t>University of Grenoble</a:t>
            </a:r>
            <a:r>
              <a:rPr b="1" lang="en-US" sz="2100" spc="-1" strike="noStrike">
                <a:solidFill>
                  <a:srgbClr val="000066"/>
                </a:solidFill>
                <a:latin typeface="Verdana"/>
              </a:rPr>
              <a:t>(Simeoni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 u="sng">
                <a:solidFill>
                  <a:srgbClr val="ffffff"/>
                </a:solidFill>
                <a:uFillTx/>
                <a:latin typeface="Verdana"/>
              </a:rPr>
              <a:t>SERBIA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100" spc="-1" strike="noStrike">
                <a:solidFill>
                  <a:srgbClr val="000066"/>
                </a:solidFill>
                <a:latin typeface="Verdana"/>
              </a:rPr>
              <a:t>Ministry of Education and Sports of the Republic of Serbia </a:t>
            </a:r>
            <a:r>
              <a:rPr b="0" lang="sl-SI" sz="2100" spc="-1" strike="noStrike">
                <a:solidFill>
                  <a:srgbClr val="000066"/>
                </a:solidFill>
                <a:latin typeface="Verdana"/>
              </a:rPr>
              <a:t>– Emilija Stanković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100" spc="-1" strike="noStrike">
                <a:solidFill>
                  <a:srgbClr val="000066"/>
                </a:solidFill>
                <a:latin typeface="Verdana"/>
              </a:rPr>
              <a:t>University of Niš </a:t>
            </a:r>
            <a:r>
              <a:rPr b="0" lang="sl-SI" sz="2100" spc="-1" strike="noStrike">
                <a:solidFill>
                  <a:srgbClr val="000066"/>
                </a:solidFill>
                <a:latin typeface="Verdana"/>
              </a:rPr>
              <a:t>- Miroljub Grozdanović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100" spc="-1" strike="noStrike">
                <a:solidFill>
                  <a:srgbClr val="000066"/>
                </a:solidFill>
                <a:latin typeface="Verdana"/>
              </a:rPr>
              <a:t>University of Kragujevac </a:t>
            </a:r>
            <a:r>
              <a:rPr b="0" lang="sl-SI" sz="2100" spc="-1" strike="noStrike">
                <a:solidFill>
                  <a:srgbClr val="000066"/>
                </a:solidFill>
                <a:latin typeface="Verdana"/>
              </a:rPr>
              <a:t>- Milentije Stefanović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100" spc="-1" strike="noStrike">
                <a:solidFill>
                  <a:srgbClr val="000066"/>
                </a:solidFill>
                <a:latin typeface="Verdana"/>
              </a:rPr>
              <a:t>University of Arts in Belgrade </a:t>
            </a:r>
            <a:r>
              <a:rPr b="0" lang="sl-SI" sz="2100" spc="-1" strike="noStrike">
                <a:solidFill>
                  <a:srgbClr val="000066"/>
                </a:solidFill>
                <a:latin typeface="Verdana"/>
              </a:rPr>
              <a:t>- Kosta Krsmanović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100" spc="-1" strike="noStrike">
                <a:solidFill>
                  <a:srgbClr val="000066"/>
                </a:solidFill>
                <a:latin typeface="Verdana"/>
              </a:rPr>
              <a:t>(University of Belgrade </a:t>
            </a:r>
            <a:r>
              <a:rPr b="0" lang="sl-SI" sz="2100" spc="-1" strike="noStrike">
                <a:solidFill>
                  <a:srgbClr val="000066"/>
                </a:solidFill>
                <a:latin typeface="Verdana"/>
              </a:rPr>
              <a:t>– Ljubiša Topisirović</a:t>
            </a:r>
            <a:r>
              <a:rPr b="0" lang="en-US" sz="21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100" spc="-1" strike="noStrike">
                <a:solidFill>
                  <a:srgbClr val="000066"/>
                </a:solidFill>
                <a:latin typeface="Verdana"/>
              </a:rPr>
              <a:t>University of Novi Sad </a:t>
            </a:r>
            <a:r>
              <a:rPr b="0" lang="sl-SI" sz="2100" spc="-1" strike="noStrike">
                <a:solidFill>
                  <a:srgbClr val="000066"/>
                </a:solidFill>
                <a:latin typeface="Verdana"/>
              </a:rPr>
              <a:t>– Miroslav Planča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06.02.27.Tempus_SCMC009B04_Flowchart" descr=""/>
          <p:cNvPicPr/>
          <p:nvPr/>
        </p:nvPicPr>
        <p:blipFill>
          <a:blip r:embed="rId2"/>
          <a:stretch/>
        </p:blipFill>
        <p:spPr>
          <a:xfrm>
            <a:off x="2819520" y="762120"/>
            <a:ext cx="5181480" cy="59436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98360" y="838080"/>
            <a:ext cx="24163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ffffff"/>
                </a:solidFill>
                <a:latin typeface="Verdana"/>
              </a:rPr>
              <a:t>TASK SCHEDU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ffffff"/>
                </a:solidFill>
                <a:latin typeface="Verdana"/>
              </a:rPr>
              <a:t>2005-0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990000"/>
                </a:solidFill>
                <a:latin typeface="Verdana"/>
              </a:rPr>
              <a:t>Flowchar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46080" y="1311120"/>
            <a:ext cx="376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Verdana"/>
              </a:rPr>
              <a:t>ESTAB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SHMENT O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Verdana"/>
              </a:rPr>
              <a:t>SERBIAN ECT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31040" y="2422440"/>
            <a:ext cx="6765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ve university coordinators have been appoin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University of Novi Sad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University of Belgrade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University of Arts in Belgrade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University of Kragujevac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University of Ni</a:t>
            </a:r>
            <a:r>
              <a:rPr b="0" lang="sl-SI" sz="2000" spc="-1" strike="noStrike">
                <a:solidFill>
                  <a:srgbClr val="990000"/>
                </a:solidFill>
                <a:latin typeface="Verdana"/>
              </a:rPr>
              <a:t>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each university in the Network, faculties appoint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their own ECTS coordin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twork-universities participated in filling-in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questionnaires regarding the application of 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KEY PERSONS IN 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University (Institutional) ECTS Coordinato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nsures the commitment of the institution (UNI) to implementation of ECTS principles and supervises the mechanism for the correct use of ECTS to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aculty/Department Coordinato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contact person for students and academic staff within the faculty and deals with the practical and academic aspects of 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9760" y="777960"/>
            <a:ext cx="42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iversity of Novi Sad</a:t>
            </a:r>
            <a:br>
              <a:rPr sz="2400"/>
            </a:br>
            <a:r>
              <a:rPr b="0" lang="en-US" sz="2400" spc="-1" strike="noStrike">
                <a:solidFill>
                  <a:srgbClr val="990000"/>
                </a:solidFill>
                <a:latin typeface="Verdana"/>
              </a:rPr>
              <a:t>Faculties ECTS coordina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1600200"/>
          <a:ext cx="8229600" cy="4768920"/>
        </p:xfrm>
        <a:graphic>
          <a:graphicData uri="http://schemas.openxmlformats.org/drawingml/2006/table">
            <a:tbl>
              <a:tblPr/>
              <a:tblGrid>
                <a:gridCol w="380880"/>
                <a:gridCol w="2057400"/>
                <a:gridCol w="2057400"/>
                <a:gridCol w="373392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1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Bari</a:t>
                      </a:r>
                      <a:r>
                        <a:rPr b="1" lang="sl-SI" sz="11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ć</a:t>
                      </a:r>
                      <a:r>
                        <a:rPr b="1" lang="sr-Latn-CS" sz="11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 Kamelka</a:t>
                      </a:r>
                      <a:r>
                        <a:rPr b="1" lang="en-US" sz="11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reign langage professor </a:t>
                      </a:r>
                      <a:r>
                        <a:rPr b="1" lang="sr-Latn-C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Main coord.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Građevinski Fakultet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Faculty of Civil Engineering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6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1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Dragan Milašinovi</a:t>
                      </a:r>
                      <a:r>
                        <a:rPr b="1" lang="sr-Latn-CS" sz="11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Expert coord.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Građevinski Fakultet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Faculty of Civil Engineering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1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Aleksandar Proti</a:t>
                      </a:r>
                      <a:r>
                        <a:rPr b="1" lang="sr-Latn-CS" sz="11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Expert coord.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Građevinski Fakultet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Faculty of Civil Engineering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Andreja Tepavčevi</a:t>
                      </a:r>
                      <a:r>
                        <a:rPr b="1" lang="sl-SI" sz="11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fessor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rirodno-matematički fakultet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Faculty of Science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6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Nenad Ostoji</a:t>
                      </a:r>
                      <a:r>
                        <a:rPr b="1" lang="sl-SI" sz="11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fessor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Akademija umetnosti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Academy of Arts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Aleksandar Petojevi</a:t>
                      </a:r>
                      <a:r>
                        <a:rPr b="1" lang="sl-SI" sz="11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ce Dean (Science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Učiteljski fakultet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Teachers’ Training Faculty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Rodoljub Etinski</a:t>
                      </a:r>
                      <a:r>
                        <a:rPr b="1" lang="en-US" sz="11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ce Dean (Education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ravni fakultet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Faculty of Law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Ilona Mihajlovi</a:t>
                      </a:r>
                      <a:r>
                        <a:rPr b="1" lang="sr-Latn-CS" sz="11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ć</a:t>
                      </a:r>
                      <a:r>
                        <a:rPr b="1" lang="en-US" sz="11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sistant Professor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Fakultet fizičke kultu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Faculty of Physical Education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Otilija Sedlak</a:t>
                      </a:r>
                      <a:r>
                        <a:rPr b="1" lang="en-US" sz="11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ce Dea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Ekonomski fakultet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Faculty of Economics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ero Eri</a:t>
                      </a:r>
                      <a:r>
                        <a:rPr b="1" lang="sr-Latn-CS" sz="11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ce Dea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oljoprivredni fakultet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Faculty of Agriculture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1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Mirjana Đuri</a:t>
                      </a:r>
                      <a:r>
                        <a:rPr b="1" lang="sr-Latn-CS" sz="11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fessor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Tehnološki fakultet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Faculty of Technology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Milan Simi</a:t>
                      </a:r>
                      <a:r>
                        <a:rPr b="1" lang="sl-SI" sz="11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ce Dea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edicinski fakultet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Faculty of Medicine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Marija </a:t>
                      </a:r>
                      <a:r>
                        <a:rPr b="1" lang="sr-Latn-CS" sz="11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Stefanovi</a:t>
                      </a:r>
                      <a:r>
                        <a:rPr b="1" lang="sr-Latn-CS" sz="11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sistant Professor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Filozofski fakultet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Faculty of Philosophy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1" lang="sr-Latn-CS" sz="11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van Beker</a:t>
                      </a:r>
                      <a:r>
                        <a:rPr b="1" lang="en-US" sz="11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fessor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Fakultet tehničkih nauk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Faculty of Techical Sciences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1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Dragan </a:t>
                      </a:r>
                      <a:r>
                        <a:rPr b="1" lang="sr-Latn-CS" sz="11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Ć</a:t>
                      </a:r>
                      <a:r>
                        <a:rPr b="1" lang="sr-Latn-CS" sz="11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o</a:t>
                      </a:r>
                      <a:r>
                        <a:rPr b="1" lang="sr-Latn-CS" sz="11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ć</a:t>
                      </a:r>
                      <a:r>
                        <a:rPr b="1" lang="sr-Latn-CS" sz="11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kalo</a:t>
                      </a:r>
                      <a:r>
                        <a:rPr b="1" lang="en-US" sz="11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si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Tehnički fakultet “Mihajlo Pupin”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“Mihajlo Pupin” Techical Faculty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17240" y="685800"/>
            <a:ext cx="52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unctioning of the ECTS Netwo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05.12.08.Plancak,ECTSnetKomunikacija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381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1120" y="905040"/>
            <a:ext cx="42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Verdana"/>
              </a:rPr>
              <a:t>QUESTIONNAIR</a:t>
            </a:r>
            <a:r>
              <a:rPr b="0" lang="sl-SI" sz="2400" spc="-1" strike="noStrike">
                <a:solidFill>
                  <a:srgbClr val="ffffff"/>
                </a:solidFill>
                <a:latin typeface="Verdana"/>
              </a:rPr>
              <a:t>E </a:t>
            </a:r>
            <a:r>
              <a:rPr b="0" lang="sl-SI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sl-SI" sz="24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571760"/>
            <a:ext cx="84582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 u="sng">
                <a:solidFill>
                  <a:srgbClr val="000066"/>
                </a:solidFill>
                <a:uFillTx/>
                <a:latin typeface="Verdana"/>
                <a:ea typeface="Times New Roman"/>
              </a:rPr>
              <a:t>General questions relating to the application </a:t>
            </a:r>
            <a:br>
              <a:rPr sz="1600"/>
            </a:br>
            <a:r>
              <a:rPr b="1" lang="sr-Latn-CS" sz="1600" spc="-1" strike="noStrike" u="sng">
                <a:solidFill>
                  <a:srgbClr val="000066"/>
                </a:solidFill>
                <a:uFillTx/>
                <a:latin typeface="Verdana"/>
                <a:ea typeface="Times New Roman"/>
              </a:rPr>
              <a:t>of ECTS at universities</a:t>
            </a:r>
            <a:r>
              <a:rPr b="1" lang="sr-Latn-C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-</a:t>
            </a:r>
            <a:r>
              <a:rPr b="0" lang="sr-Latn-C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sr-Latn-C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is it appli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-</a:t>
            </a:r>
            <a:r>
              <a:rPr b="1" lang="sr-Latn-C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sr-Latn-C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to what extent is it applie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- how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66"/>
                </a:solidFill>
                <a:latin typeface="Verdana"/>
              </a:rPr>
              <a:t>b)   </a:t>
            </a:r>
            <a:r>
              <a:rPr b="1" lang="sr-Latn-CS" sz="1600" spc="-1" strike="noStrike" u="sng">
                <a:solidFill>
                  <a:srgbClr val="000066"/>
                </a:solidFill>
                <a:uFillTx/>
                <a:latin typeface="Verdana"/>
                <a:ea typeface="Times New Roman"/>
              </a:rPr>
              <a:t>Q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Verdana"/>
                <a:ea typeface="Times New Roman"/>
              </a:rPr>
              <a:t>uestions relating to the application of ECTS at</a:t>
            </a:r>
            <a:r>
              <a:rPr b="1" lang="sl-SI" sz="1600" spc="-1" strike="noStrike" u="sng">
                <a:solidFill>
                  <a:srgbClr val="000066"/>
                </a:solidFill>
                <a:uFillTx/>
                <a:latin typeface="Verdana"/>
              </a:rPr>
              <a:t>  </a:t>
            </a:r>
            <a:r>
              <a:rPr b="1" lang="sr-Latn-CS" sz="1600" spc="-1" strike="noStrike" u="sng">
                <a:solidFill>
                  <a:srgbClr val="000066"/>
                </a:solidFill>
                <a:uFillTx/>
                <a:latin typeface="Verdana"/>
                <a:ea typeface="Times New Roman"/>
              </a:rPr>
              <a:t>faculties/departments</a:t>
            </a:r>
            <a:r>
              <a:rPr b="1" lang="sr-Latn-C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:</a:t>
            </a:r>
            <a:r>
              <a:rPr b="1" lang="sr-Latn-C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· </a:t>
            </a:r>
            <a:r>
              <a:rPr b="1" lang="sr-Latn-CS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sr-Latn-C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r>
              <a:rPr b="0" lang="sr-Latn-C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curricula, modules, student work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·  </a:t>
            </a:r>
            <a:r>
              <a:rPr b="0" lang="sr-Latn-CS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catalogue/information package</a:t>
            </a:r>
            <a:r>
              <a:rPr b="0" lang="sr-Latn-C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of a faculty:</a:t>
            </a:r>
            <a:r>
              <a:rPr b="1" lang="sr-Latn-C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r>
              <a:rPr b="1" lang="sr-Latn-C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-</a:t>
            </a:r>
            <a:r>
              <a:rPr b="1" lang="sr-Latn-C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sr-Latn-C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is it publishe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r>
              <a:rPr b="1" lang="sr-Latn-C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-</a:t>
            </a:r>
            <a:r>
              <a:rPr b="1" lang="sr-Latn-C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sr-Latn-C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what kind of information does it contai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r>
              <a:rPr b="1" lang="sr-Latn-C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-</a:t>
            </a:r>
            <a:r>
              <a:rPr b="1" lang="sr-Latn-C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sr-Latn-C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are there any information concerning the application of ECT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r>
              <a:rPr b="1" lang="sr-Latn-C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-</a:t>
            </a:r>
            <a:r>
              <a:rPr b="1" lang="sr-Latn-C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sr-Latn-C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who are the users of the 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catalogue/information package</a:t>
            </a:r>
            <a:r>
              <a:rPr b="1" lang="sr-Latn-C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c</a:t>
            </a:r>
            <a:r>
              <a:rPr b="1" lang="sr-Latn-CS" sz="1600" spc="-1" strike="noStrike">
                <a:solidFill>
                  <a:srgbClr val="000066"/>
                </a:solidFill>
                <a:latin typeface="Verdana"/>
              </a:rPr>
              <a:t>)  </a:t>
            </a:r>
            <a:r>
              <a:rPr b="1" lang="sr-Latn-CS" sz="1600" spc="-1" strike="noStrike" u="sng">
                <a:solidFill>
                  <a:srgbClr val="000066"/>
                </a:solidFill>
                <a:uFillTx/>
                <a:latin typeface="Verdana"/>
                <a:ea typeface="Times New Roman"/>
              </a:rPr>
              <a:t>Learning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d)</a:t>
            </a:r>
            <a:r>
              <a:rPr b="1" lang="sr-Latn-CS" sz="16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sr-Latn-CS" sz="1600" spc="-1" strike="noStrike" u="sng">
                <a:solidFill>
                  <a:srgbClr val="000066"/>
                </a:solidFill>
                <a:uFillTx/>
                <a:latin typeface="Verdana"/>
                <a:ea typeface="Times New Roman"/>
              </a:rPr>
              <a:t>Transcript of rec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e)</a:t>
            </a:r>
            <a:r>
              <a:rPr b="1" lang="sr-Latn-CS" sz="16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sr-Latn-CS" sz="1600" spc="-1" strike="noStrike" u="sng">
                <a:solidFill>
                  <a:srgbClr val="000066"/>
                </a:solidFill>
                <a:uFillTx/>
                <a:latin typeface="Verdana"/>
                <a:ea typeface="Times New Roman"/>
              </a:rPr>
              <a:t>Academic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10:25:04Z</dcterms:created>
  <dc:creator>jelena</dc:creator>
  <dc:description/>
  <dc:language>en-US</dc:language>
  <cp:lastModifiedBy>plancak</cp:lastModifiedBy>
  <dcterms:modified xsi:type="dcterms:W3CDTF">2006-02-27T12:17:14Z</dcterms:modified>
  <cp:revision>19</cp:revision>
  <dc:subject/>
  <dc:title>PowerPoint Presentation</dc:title>
</cp:coreProperties>
</file>