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D35-9470-41E8-9975-0C4D873F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A18-FB7D-4925-B18C-F228C2A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FE9-4185-4576-B1FB-9EFAE863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0D7-8B19-428C-AAD0-BBE1AB4E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275-EB56-40DB-9920-6B8A0CF9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B68D-506C-4A7B-B13A-18B5C90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3D49-AD89-41B8-B388-50550A0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CD7-7353-478C-B7F0-F71B7D3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A7CF-DDF2-409B-885F-4FA84B9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F0D6-6128-425A-9E96-4541ECA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DEC7-3B45-45A1-B3C2-52D3F41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6E4-66E5-4590-89E9-722B94A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4527-6BF8-4F74-91FE-6AC664E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B6EA-2DC5-4D2F-8938-55F48F6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5336-10D0-403F-BE1C-4E06857A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A28E-DF80-45E2-B822-90EFC47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1C0-39AB-4E45-8159-78E3041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CA9-4717-4480-9CA6-A646776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F16-2E0D-4BA6-8D1F-7B41934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685-03E6-4F74-B6BC-11F91ED6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1D6-21CB-4E89-B9BB-8B83AAF5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03D-048F-462C-9B81-1B49FCA7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0E4-F4BE-4F8A-8D81-CD75960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496-1677-4C23-BD83-EB6850A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A3A-147E-4A4E-8273-732BA899ACFC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EDA0-0A3A-4CCF-82AB-0B0062D84FDD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erenyi@kreditiroda.hu" TargetMode="External"/><Relationship Id="rId2" Type="http://schemas.openxmlformats.org/officeDocument/2006/relationships/hyperlink" Target="http://www.kreditlap.hu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derenyi@kreditiroda.hu" TargetMode="External"/><Relationship Id="rId2" Type="http://schemas.openxmlformats.org/officeDocument/2006/relationships/hyperlink" Target="http://www.kreditlap.hu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281999"/>
                </a:solidFill>
                <a:latin typeface="Garamond"/>
              </a:rPr>
              <a:t>Bologna </a:t>
            </a:r>
            <a:r>
              <a:rPr b="1" lang="en-US" sz="4800" spc="-1" strike="noStrike">
                <a:solidFill>
                  <a:srgbClr val="281999"/>
                </a:solidFill>
                <a:latin typeface="Garamond"/>
              </a:rPr>
              <a:t>Process</a:t>
            </a:r>
            <a:r>
              <a:rPr b="1" lang="hu-HU" sz="4800" spc="-1" strike="noStrike">
                <a:solidFill>
                  <a:srgbClr val="281999"/>
                </a:solidFill>
                <a:latin typeface="Garamond"/>
              </a:rPr>
              <a:t> in Hungar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ás Derén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arian Credi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erenyi@kreditiroda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kreditlap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Catching-up with EHE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– new government started to adopt principles of Bologna Pro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orking group for catching up with EHEA. Task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ordination of expert works to prepare a new (Bologna) act on 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tional Bologna Board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members: representatives of rectors’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nference, accreditation committee, „bologna board” of scientific fiel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overnmental decrees introduc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new cycle system, new qualifications framework for Hu HE, new process of founding and registering new bachelor and master programm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form is overburdened with other issues such as change of financing rules, change of governing structures, withdrawal of the state from determining organization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tructure of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niversity, enhancing student rights and equal opportunity in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etc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bates and arguments on behalf of universities  against „such fast and determined chang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„leav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traditional, valuable dual system behind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281999"/>
                </a:solidFill>
                <a:latin typeface="Garamond"/>
              </a:rPr>
              <a:t>Credit system in Hungarian H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03 –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ll universities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ve bee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obliged to introduce and apply cumulative credit system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(that is similar to ECTS in its featur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eding even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ome universities started to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velop their own credit system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ere different to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one another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ews from ECTS pilot project;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ferences on EC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6-97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Tempus-CME project on feasibility of credit system in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ungary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nal study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recommendation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tract of WB Loan with commitments (such as founding a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tional credit council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and a central office in order to offer suppor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overnmental decree on introducing credit system by 2002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/2003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focus on cumulativ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cred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ologna Declaration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(among its principles there is ECT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02 -  Tuning project recommended: ECTS should be developed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wards a cumulative tool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 EUA adopted ECTS in Zür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03 -  Berlin Meeting adopted the recommendation of Tuning pro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05 -  National Credit Monitoring in Hu (result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 credit system is fully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troduced and applied – though with shortages; ECTS transfer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redit is hardly used, student mobility and recognition of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earning outcomes are not supported, moreover often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fused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281999"/>
                </a:solidFill>
                <a:latin typeface="Garamond"/>
              </a:rPr>
              <a:t>2005-2006 New </a:t>
            </a: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act on 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ew act legaliz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cycle system and exclud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formal dual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ew act included detailed rules of how to apply credit syst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y this tim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ll freshmen studying in bachelor programmes (exc. some program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ome master programs have started yet, many more start by Sept. 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redit system is fully introduced and applied; ECTS transfer credit is not used widely, student mobility and recognition of learning outcomes are not supported everywh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oubtfulness and debates concerning Bologna Process are not decreas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with our credit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ugh main features of Hungarian credit system are the same as that of ECTS, its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cumulative tool is rather formal (universities follow the rules but credit-based approaches do not penetrate the attitude of the staff towards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transfer tool is rare and occasional, mainly because professors do not like to recognize study events that have happened outside the depart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080" y="100800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studied abro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70080"/>
          <a:ext cx="2298600" cy="22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0080"/>
                    <a:ext cx="22986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11280" y="260280"/>
            <a:ext cx="8101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cc9900"/>
                </a:solidFill>
                <a:latin typeface="Arial"/>
              </a:rPr>
              <a:t>Study abroad and recognition of cred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692280"/>
            <a:ext cx="28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wanted your credits be recognized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8680" y="76680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succe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1480" y="356076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Are you planning to study abroad in the next 2 semesters?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68760" y="3581280"/>
            <a:ext cx="26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Would you like your credits be recogniz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52680" y="1228680"/>
          <a:ext cx="2298960" cy="226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228680"/>
                    <a:ext cx="229896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83440" y="1185840"/>
          <a:ext cx="2298600" cy="226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3440" y="1185840"/>
                    <a:ext cx="229860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27440" y="291780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 Narrow"/>
              </a:rPr>
              <a:t>N=14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29360" y="2968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 Narrow"/>
              </a:rPr>
              <a:t>N=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68040" y="30052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 Narrow"/>
              </a:rPr>
              <a:t>N=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63800" y="4054320"/>
          <a:ext cx="2298600" cy="226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3800" y="4054320"/>
                    <a:ext cx="229860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02080" y="4011480"/>
          <a:ext cx="2298960" cy="226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02080" y="4011480"/>
                    <a:ext cx="229896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835800" y="5884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 Narrow"/>
              </a:rPr>
              <a:t>N=14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80560" y="581976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 Narrow"/>
              </a:rPr>
              <a:t>N=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395440"/>
            <a:ext cx="958680" cy="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57960" y="2336760"/>
            <a:ext cx="812520" cy="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49640" y="5138640"/>
            <a:ext cx="1103400" cy="1440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1125360"/>
            <a:ext cx="27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picked up courses from other program(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1000" y="1870200"/>
          <a:ext cx="2298600" cy="22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870200"/>
                    <a:ext cx="22986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8440" y="260280"/>
            <a:ext cx="9115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cc9900"/>
                </a:solidFill>
                <a:latin typeface="Arial"/>
              </a:rPr>
              <a:t>Student mobility whithin Hungary (</a:t>
            </a:r>
            <a:r>
              <a:rPr b="1" lang="hu-HU" sz="2400" spc="-1" strike="noStrike">
                <a:solidFill>
                  <a:srgbClr val="cc9900"/>
                </a:solidFill>
                <a:latin typeface="Arial"/>
              </a:rPr>
              <a:t>past semester</a:t>
            </a:r>
            <a:r>
              <a:rPr b="1" lang="hu-HU" sz="26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26828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picked up courses from other facul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23120" y="1197000"/>
            <a:ext cx="27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Have you picked up courses from other</a:t>
            </a:r>
            <a:r>
              <a:rPr b="0" lang="hu-HU" sz="1800" spc="-1" strike="noStrike">
                <a:solidFill>
                  <a:srgbClr val="3b812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3b812f"/>
                </a:solidFill>
                <a:latin typeface="Times New Roman"/>
              </a:rPr>
              <a:t>univers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98760" y="1898640"/>
          <a:ext cx="2298600" cy="22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8760" y="1898640"/>
                    <a:ext cx="22986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432480" y="1898640"/>
          <a:ext cx="2298600" cy="22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2480" y="1898640"/>
                    <a:ext cx="22986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799680" y="66672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sis: total pool, N=14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3840" y="46958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b812f"/>
                </a:solidFill>
                <a:latin typeface="Arial"/>
              </a:rPr>
              <a:t>Plans of gaining credits in the next semester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1040" y="50925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b812f"/>
                </a:solidFill>
                <a:latin typeface="Arial"/>
              </a:rPr>
              <a:t>1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5067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b812f"/>
                </a:solidFill>
                <a:latin typeface="Arial"/>
              </a:rPr>
              <a:t>1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067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b812f"/>
                </a:solidFill>
                <a:latin typeface="Arial"/>
              </a:rPr>
              <a:t>4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-1450800" y="1146240"/>
          <a:ext cx="100137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50800" y="1146240"/>
                    <a:ext cx="100137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74600"/>
            <a:ext cx="7670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cc9900"/>
                </a:solidFill>
                <a:latin typeface="Garamond"/>
              </a:rPr>
              <a:t>Obstacles of mobil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" y="3527280"/>
            <a:ext cx="860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9720" y="893880"/>
            <a:ext cx="139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4, 5 % (fully featuring, featu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59480" y="857160"/>
            <a:ext cx="30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op. of answers as „I do not know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08680" y="12049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1000" y="16765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91040" y="2584440"/>
            <a:ext cx="8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9320" y="3027240"/>
            <a:ext cx="8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27760" y="3956040"/>
            <a:ext cx="8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4398840"/>
            <a:ext cx="8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ás Derén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arian Credi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erenyi@kreditiroda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kreditlap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281999"/>
                </a:solidFill>
                <a:latin typeface="Garamond"/>
              </a:rPr>
              <a:t>Key dates in Hungarian HE in the past 15 yea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990 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litical transitio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nd reform process in 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993 - new Act on Higher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996 - significant modification on the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998 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B loan contract for modernizing Hu 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999 - Bologna Declaration undersigned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by Hu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000 - act on institutional integration (merg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001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ct on Recognitio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of Diplo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tification of Lisbo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005 - new act on 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  many lower level laws and dec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1990 - political tran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thdrawal of state representatives from university se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re liberal atmospher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tion turned towar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universities (its organization, teaching, and govern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tiative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local institutiona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orm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ppeared separately led by enlightened rectors o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leading profes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281999"/>
                </a:solidFill>
                <a:latin typeface="Garamond"/>
              </a:rPr>
              <a:t>1993 - new act on higher educ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ignifica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the first occasion that an act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edicated to higher education sector (instead of the whole education sec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iversities gained more autonomy, state control decreased, accreditation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rted, new (normative [?]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unding appe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wever, 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al institutional system along with dual training system remained untouched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Dualism in HE in Hu</a:t>
            </a:r>
            <a:r>
              <a:rPr b="0" lang="hu-HU" sz="4200" spc="-1" strike="noStrike">
                <a:solidFill>
                  <a:srgbClr val="281999"/>
                </a:solidFill>
                <a:latin typeface="Garamond"/>
              </a:rPr>
              <a:t>ng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lleges and univers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/ professional profil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w/ professional or general prof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ny small institution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small and large institu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ower level of scientif. exc.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higher level of scientific excell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 or 4 year program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5-6 year progr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vailable only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in college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vailable only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 univers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ow level of theory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overloaded w/ high level of theo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igh level of prof. practic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low level of prof. pract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ead to college degre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ead to university degr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quivalent of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achelor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degre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equivalent of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degr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grees contain qualifications as we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n 1993 many of HE members presumed, it would be better to shift to a cycled system soon. The new HE Act did not touched this issu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281999"/>
                </a:solidFill>
                <a:latin typeface="Garamond"/>
              </a:rPr>
              <a:t>1996 - </a:t>
            </a:r>
            <a:r>
              <a:rPr b="0" lang="en-GB" sz="3100" spc="-1" strike="noStrike">
                <a:solidFill>
                  <a:srgbClr val="281999"/>
                </a:solidFill>
                <a:latin typeface="Garamond"/>
              </a:rPr>
              <a:t>significant modification on the act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issues appea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to introduce cycl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it syst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ffirmed accreditation process and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toral studies (PhD) and habilitatio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nstead of former soviet-like system of scientific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gistration of degree programmes (qualifications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1996 all HE members knew, universities would have to shift to a cycled system. The modified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 barely touched this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WB loan for modernizing HE</a:t>
            </a:r>
            <a:r>
              <a:rPr b="0" lang="hu-HU" sz="4200" spc="-1" strike="noStrike">
                <a:solidFill>
                  <a:srgbClr val="281999"/>
                </a:solidFill>
                <a:latin typeface="Garamond"/>
              </a:rPr>
              <a:t> in H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aims is to strength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ility of training system and institu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ability to environmental change and so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n governing structure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ne of the tools: 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id introducing of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edit system as a vehicle of inherent reform in degree structure and teaching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281999"/>
                </a:solidFill>
                <a:latin typeface="Garamond"/>
              </a:rPr>
              <a:t>1999 - Bologna Decla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ungary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dersigned the Decla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he next years only a little progress was m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vernment: „Let’s talk about it (a little), don’t do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bout i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iversities: „Dual system is a valuable tradition we need to insist on it. Hungarian HE is better then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est-Europ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0 – termination of WB contr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0 - act on institutional integration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d small university/ies with neighbouring large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d universities located in the same city into one larg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ordinatio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lved the number of universities for a few years though old problems and contradictions remained. (parallel structures and positions, share of profits and deficit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1 - Act on Recognitio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of Diplomas (degrees and qual.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1 - Ratification of Lisb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vention on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cognitio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f Qualifications (199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2 – new government started to adopt principles of Bologna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1:20:53Z</dcterms:created>
  <dc:creator>Derényi András</dc:creator>
  <dc:description/>
  <dc:language>en-US</dc:language>
  <cp:lastModifiedBy>Derényi András</cp:lastModifiedBy>
  <dcterms:modified xsi:type="dcterms:W3CDTF">2007-01-29T09:43:37Z</dcterms:modified>
  <cp:revision>5</cp:revision>
  <dc:subject/>
  <dc:title>Bologna Process in Hungary</dc:title>
</cp:coreProperties>
</file>